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6FC-6F7B-4793-87F6-FAB95E2D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494-0962-4CC0-ABE3-DF50AB6B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E3D-0A36-4619-BDE2-CEE340A3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277-137D-4B75-BEB6-AB83DFED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B8C-7D26-4875-907C-2E65ED9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A2D-743E-452F-B724-0C93858B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BF0-D0B8-49B8-B565-272EE1C0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2E8-8C3A-4502-BD64-61B9E72F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0C9-AF48-4AEB-B027-0298B695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619-2E5B-4312-A733-92553EAB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1AA-3FB2-4E5D-BE50-83DDCA91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9FC-3642-4E33-A99F-FC7E693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D5F8-6B96-49A8-9B20-BE55BD935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we afford to live the way that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b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 speaks very wisely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48440" cy="5286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16720" y="1916280"/>
            <a:ext cx="2158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…..how can YOU reduce, reuse, recycle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stainabl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phrase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stainabl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mproving the quality of life by using natural resources wisely”  (according to the exam board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b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b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916280"/>
            <a:ext cx="31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use them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cut down the amount we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any altern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b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1916280"/>
            <a:ext cx="31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use them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cut down the amount we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any altern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b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b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916280"/>
            <a:ext cx="31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use them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cut down the amount we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any altern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 speaks very wisely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b speaks very wisely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5:00:42Z</dcterms:created>
  <dc:creator>sthobbsc</dc:creator>
  <dc:description/>
  <dc:language>en-US</dc:language>
  <cp:lastModifiedBy>sthobbsc</cp:lastModifiedBy>
  <dcterms:modified xsi:type="dcterms:W3CDTF">2007-01-04T15:12:03Z</dcterms:modified>
  <cp:revision>2</cp:revision>
  <dc:subject/>
  <dc:title>Can we afford to live the way that we do?</dc:title>
</cp:coreProperties>
</file>